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8D4-DDFF-4958-88CE-FA225B6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177-1E2F-4BF2-A2C2-261F3EB5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122-08C7-4CEE-A14D-6E35F534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F1E-7B36-4700-820E-62A0E03D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E91-BCE4-495B-A368-5136922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A7C-3ACB-4E21-A23A-AB7A0FB1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84F-710A-449A-B536-C71CD2A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38F-89C2-49F4-9A64-D6FC8AC7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C36-AF25-42E5-983D-F9237949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DF4-2B72-4251-ADF4-DE85791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477-EBD9-4397-B722-3B3C547F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95B-EEF4-4464-9BFD-6F03D5C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361-8D0E-46ED-935E-ABD26F5B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zion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Fabio D’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rtimento di Scienze Umane 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egli Studi di Per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modello di comportamento: Mongar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24000" y="1484280"/>
          <a:ext cx="4943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43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uolo: G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24000" y="1484280"/>
          <a:ext cx="49467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467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neutrale di istit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050920" y="1600200"/>
          <a:ext cx="499608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00200"/>
                    <a:ext cx="49960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istituzione: Bagnasco, Barbagli, Cav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95640" y="1628640"/>
          <a:ext cx="473544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28640"/>
                    <a:ext cx="473544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istituzione: Mongar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5640" y="1484280"/>
          <a:ext cx="48052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484280"/>
                    <a:ext cx="48052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fferenziazione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79600" y="1413000"/>
          <a:ext cx="42894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413000"/>
                    <a:ext cx="42894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zio sociale e val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32000" y="1341360"/>
          <a:ext cx="647532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47532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zione di valore: Bagnasco, Barbagli, Cav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40000" y="1484280"/>
          <a:ext cx="441324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84280"/>
                    <a:ext cx="441324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di valore: Mongard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95640" y="1557360"/>
          <a:ext cx="47228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57360"/>
                    <a:ext cx="47228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mportamento e valori: Gu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65200" y="1341360"/>
          <a:ext cx="45118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341360"/>
                    <a:ext cx="45118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40000" y="1700280"/>
          <a:ext cx="4525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4525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nterfaccia cult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24000" y="1484280"/>
          <a:ext cx="49150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9150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i e spazi soc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82640" y="1600200"/>
          <a:ext cx="5778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1600200"/>
                    <a:ext cx="5778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pazio soci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27280" y="1484280"/>
          <a:ext cx="3828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484280"/>
                    <a:ext cx="3828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tratificazione so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40000" y="1341360"/>
          <a:ext cx="4511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511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tteri della stratific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35280" y="1484280"/>
          <a:ext cx="53593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84280"/>
                    <a:ext cx="53593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 di stratific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1700280"/>
          <a:ext cx="4356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4356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tatu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41560" y="1557360"/>
          <a:ext cx="51228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1557360"/>
                    <a:ext cx="51228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statu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93960" y="1557360"/>
          <a:ext cx="534204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557360"/>
                    <a:ext cx="534204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i del ru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95640" y="1600200"/>
          <a:ext cx="484488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00200"/>
                    <a:ext cx="484488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32:28Z</dcterms:created>
  <dc:creator>Fabio D'Andrea</dc:creator>
  <dc:description/>
  <dc:language>en-US</dc:language>
  <cp:lastModifiedBy>Fabio D'Andrea</cp:lastModifiedBy>
  <dcterms:modified xsi:type="dcterms:W3CDTF">2008-04-04T13:40:09Z</dcterms:modified>
  <cp:revision>10</cp:revision>
  <dc:subject/>
  <dc:title>Lezioni</dc:title>
</cp:coreProperties>
</file>